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1BB0-2F4E-45EE-983B-A3402F004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ED52-F4AA-4B57-81B7-B8543BF8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0146-10FD-4AF0-89E3-45506430F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E467-CC94-4063-BB48-A88A87967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83B2-48EA-44AF-B903-5E9FCFEE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27C9-047E-4DA2-B160-24BD21B9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B371-AB6A-4E4C-80BE-274952DA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5725-32F0-467E-A77E-E648490B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68580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39EB-A878-4814-9927-CDA33B68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2A4D-1746-4B26-8BFF-B420E2CF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29BE-7FB7-48A4-833B-F32EC3B0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79CA-E16C-4507-B037-32082113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3440"/>
            <a:ext cx="24130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2F4F-E67F-46CD-86E6-AA7FD277D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96800" y="0"/>
            <a:ext cx="22370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b"/>
                </a:solidFill>
                <a:latin typeface="Comic Sans MS"/>
              </a:rPr>
              <a:t>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b"/>
                </a:solidFill>
                <a:latin typeface="Comic Sans MS"/>
              </a:rPr>
              <a:t>ye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b"/>
                </a:solidFill>
                <a:latin typeface="Comic Sans MS"/>
              </a:rPr>
              <a:t>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b"/>
                </a:solidFill>
                <a:latin typeface="Comic Sans MS"/>
              </a:rPr>
              <a:t>b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b"/>
                </a:solidFill>
                <a:latin typeface="Comic Sans MS"/>
              </a:rPr>
              <a:t>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b"/>
                </a:solidFill>
                <a:latin typeface="Comic Sans MS"/>
              </a:rPr>
              <a:t>p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b"/>
                </a:solidFill>
                <a:latin typeface="Comic Sans MS"/>
              </a:rPr>
              <a:t>o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b"/>
                </a:solidFill>
                <a:latin typeface="Comic Sans MS"/>
              </a:rPr>
              <a:t>b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b"/>
                </a:solidFill>
                <a:latin typeface="Comic Sans MS"/>
              </a:rPr>
              <a:t>pur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b"/>
                </a:solidFill>
                <a:latin typeface="Comic Sans MS"/>
              </a:rPr>
              <a:t>gr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e"/>
                </a:solidFill>
                <a:latin typeface="Comic Sans MS"/>
              </a:rPr>
              <a:t>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641920" y="2098800"/>
            <a:ext cx="12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03800" y="365040"/>
            <a:ext cx="125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a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18360" y="2508120"/>
            <a:ext cx="109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89640" y="158436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22600" y="28796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l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75480" y="907920"/>
            <a:ext cx="15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51440" y="1365120"/>
            <a:ext cx="146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41840" y="2270160"/>
            <a:ext cx="104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94040" y="96516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o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37120" y="222120"/>
            <a:ext cx="104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2520" y="1784520"/>
            <a:ext cx="12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lan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65200" y="0"/>
            <a:ext cx="2092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b"/>
                </a:solidFill>
                <a:latin typeface="Comic Sans MS"/>
              </a:rPr>
              <a:t>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b"/>
                </a:solidFill>
                <a:latin typeface="Comic Sans MS"/>
              </a:rPr>
              <a:t>ye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b"/>
                </a:solidFill>
                <a:latin typeface="Comic Sans MS"/>
              </a:rPr>
              <a:t>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b"/>
                </a:solidFill>
                <a:latin typeface="Comic Sans MS"/>
              </a:rPr>
              <a:t>b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b"/>
                </a:solidFill>
                <a:latin typeface="Comic Sans MS"/>
              </a:rPr>
              <a:t>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b"/>
                </a:solidFill>
                <a:latin typeface="Comic Sans MS"/>
              </a:rPr>
              <a:t>p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b"/>
                </a:solidFill>
                <a:latin typeface="Comic Sans MS"/>
              </a:rPr>
              <a:t>o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b"/>
                </a:solidFill>
                <a:latin typeface="Comic Sans MS"/>
              </a:rPr>
              <a:t>b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b"/>
                </a:solidFill>
                <a:latin typeface="Comic Sans MS"/>
              </a:rPr>
              <a:t>pur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b"/>
                </a:solidFill>
                <a:latin typeface="Comic Sans MS"/>
              </a:rPr>
              <a:t>gr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e"/>
                </a:solidFill>
                <a:latin typeface="Comic Sans MS"/>
              </a:rPr>
              <a:t>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89560" y="2108160"/>
            <a:ext cx="106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03800" y="365040"/>
            <a:ext cx="161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mar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18360" y="2508120"/>
            <a:ext cx="109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89640" y="1584360"/>
            <a:ext cx="13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22600" y="2879640"/>
            <a:ext cx="106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z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75480" y="907920"/>
            <a:ext cx="15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rr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51440" y="1365120"/>
            <a:ext cx="15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r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41840" y="2270160"/>
            <a:ext cx="12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g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94040" y="965160"/>
            <a:ext cx="15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32440" y="3670200"/>
            <a:ext cx="104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2520" y="1784520"/>
            <a:ext cx="13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l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13:24:24Z</dcterms:created>
  <dc:creator>Helen</dc:creator>
  <dc:description/>
  <dc:language>en-US</dc:language>
  <cp:lastModifiedBy>Helen</cp:lastModifiedBy>
  <dcterms:modified xsi:type="dcterms:W3CDTF">2010-05-22T13:28:42Z</dcterms:modified>
  <cp:revision>2</cp:revision>
  <dc:subject/>
  <dc:title>Slide 1</dc:title>
</cp:coreProperties>
</file>